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A084-0EFB-47F2-B81D-313478F3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18B1-BC1E-47F2-B4B9-A9152B2C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5D9-057F-42D5-8660-898720893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18A8-0694-4161-84DB-36C8FF0EA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DA13-7CB4-47F2-BBC9-61B039D44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4C65-1CE4-412E-BFC8-7DB80AD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16D-B08D-46E1-B544-2B324AEF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43C1-1E67-4C25-8856-51906B77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0559-9C86-4274-B4AB-7CBBFE04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C132-E93E-41C6-BCA4-B036C204A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B4E63-EA17-4129-94BE-AE812E6C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FD79-603D-4673-9CF7-1EBC5D64A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48400-0420-40D7-A0DA-363FD8B88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8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4.xml"/><Relationship Id="rId9" Type="http://schemas.openxmlformats.org/officeDocument/2006/relationships/slide" Target="slide34.xml"/><Relationship Id="rId10" Type="http://schemas.openxmlformats.org/officeDocument/2006/relationships/slide" Target="slide40.xml"/><Relationship Id="rId11" Type="http://schemas.openxmlformats.org/officeDocument/2006/relationships/slide" Target="slide6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2.xml"/><Relationship Id="rId16" Type="http://schemas.openxmlformats.org/officeDocument/2006/relationships/slide" Target="slide8.xml"/><Relationship Id="rId17" Type="http://schemas.openxmlformats.org/officeDocument/2006/relationships/slide" Target="slide18.xml"/><Relationship Id="rId18" Type="http://schemas.openxmlformats.org/officeDocument/2006/relationships/slide" Target="slide28.xml"/><Relationship Id="rId19" Type="http://schemas.openxmlformats.org/officeDocument/2006/relationships/slide" Target="slide38.xml"/><Relationship Id="rId20" Type="http://schemas.openxmlformats.org/officeDocument/2006/relationships/slide" Target="slide50.xml"/><Relationship Id="rId21" Type="http://schemas.openxmlformats.org/officeDocument/2006/relationships/slide" Target="slide10.xml"/><Relationship Id="rId22" Type="http://schemas.openxmlformats.org/officeDocument/2006/relationships/slide" Target="slide20.xml"/><Relationship Id="rId23" Type="http://schemas.openxmlformats.org/officeDocument/2006/relationships/slide" Target="slide30.xml"/><Relationship Id="rId24" Type="http://schemas.openxmlformats.org/officeDocument/2006/relationships/slide" Target="slide46.xml"/><Relationship Id="rId25" Type="http://schemas.openxmlformats.org/officeDocument/2006/relationships/slide" Target="slide44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1209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ff0000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66ff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Text Box 84"/>
          <p:cNvSpPr/>
          <p:nvPr/>
        </p:nvSpPr>
        <p:spPr>
          <a:xfrm>
            <a:off x="51814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3" name="Text Box 85"/>
          <p:cNvSpPr/>
          <p:nvPr/>
        </p:nvSpPr>
        <p:spPr>
          <a:xfrm>
            <a:off x="6553080" y="9144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4" name="Text Box 86"/>
          <p:cNvSpPr/>
          <p:nvPr/>
        </p:nvSpPr>
        <p:spPr>
          <a:xfrm>
            <a:off x="1676520" y="45720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bes  Traduction  Pronoms       Vocab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sé</a:t>
            </a:r>
            <a:endParaRPr b="0" lang="en-US" sz="20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en I was 3, I used to swim every day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447920" y="914400"/>
            <a:ext cx="6476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nd j’avais 3 ans, je nageais tous les jours.</a:t>
            </a:r>
            <a:endParaRPr b="0" lang="en-US" sz="4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304920" y="1752480"/>
            <a:ext cx="830556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he lives well.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She lives in the country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Employez 2 verbes différents.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457200" y="609480"/>
            <a:ext cx="83059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le vit bien.  Elle habite à la campagne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French is a language that I speak well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77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Text Box 6"/>
          <p:cNvSpPr/>
          <p:nvPr/>
        </p:nvSpPr>
        <p:spPr>
          <a:xfrm>
            <a:off x="990720" y="1371600"/>
            <a:ext cx="7162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 français est une langue que je parle bien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 locked the door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1447920" y="12193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J’ai fermé à clé la porte.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304920" y="1752480"/>
            <a:ext cx="8305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pen the window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urn out the lights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ose the door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720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Éteins les lumières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uvre la fenêtre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erme la porte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 know” Milwaukee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304920" y="1600200"/>
            <a:ext cx="86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he covered her bed. She discovered an old arm chair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1523880" y="1447920"/>
            <a:ext cx="6019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Elle a couvert son lit.  Elle a découvert un vieux fauteuil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el pronom?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him, to her”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04920" y="1752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ui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380880" y="685800"/>
            <a:ext cx="830592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mployez 2 pronoms: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l écrit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la lettre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à sa mère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98" name="Object 6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304920" y="1752480"/>
            <a:ext cx="8305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102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Text Box 6"/>
          <p:cNvSpPr/>
          <p:nvPr/>
        </p:nvSpPr>
        <p:spPr>
          <a:xfrm>
            <a:off x="2209680" y="1143000"/>
            <a:ext cx="472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2438280" y="1143000"/>
            <a:ext cx="472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Il la lui écrit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0" y="609480"/>
            <a:ext cx="8305920" cy="40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baseline="30000">
                <a:solidFill>
                  <a:srgbClr val="000000"/>
                </a:solidFill>
                <a:latin typeface="Times New Roman"/>
              </a:rPr>
              <a:t>Nous avons acheté </a:t>
            </a:r>
            <a:r>
              <a:rPr b="0" lang="en-US" sz="8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des CDs</a:t>
            </a:r>
            <a:r>
              <a:rPr b="0" lang="en-US" sz="8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8000" spc="-1" strike="noStrike" u="sng" baseline="30000">
                <a:solidFill>
                  <a:srgbClr val="000000"/>
                </a:solidFill>
                <a:uFillTx/>
                <a:latin typeface="Times New Roman"/>
              </a:rPr>
              <a:t>au magasin</a:t>
            </a:r>
            <a:r>
              <a:rPr b="0" lang="en-US" sz="8000" spc="-1" strike="noStrike" baseline="30000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752480" y="152388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ous y en avons acheté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Buy me an arm chair! (vous)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447920" y="1447920"/>
            <a:ext cx="5715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chetez-moi un fauteil!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 connais Milwaukee”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04920" y="1752480"/>
            <a:ext cx="830556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on’t listen to him! (tu)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e is going to tell it to him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1295280" y="1143000"/>
            <a:ext cx="632484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e l’écoute pas!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va le lui dire.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304920" y="1752480"/>
            <a:ext cx="8305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leave (something)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keep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forget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533520" y="1143000"/>
            <a:ext cx="83818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aisser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Garder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oublier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hat kind of film is it?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62120" y="1447920"/>
            <a:ext cx="8001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Quel genre de film est-ce?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’est quel genre de film?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he truth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 lie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2209680" y="1295280"/>
            <a:ext cx="563904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vérité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Un mensonge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04920" y="1752480"/>
            <a:ext cx="8305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ock climbing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Waterskiing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Mountain biking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533520" y="1905120"/>
            <a:ext cx="1028700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’escalade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e ski nautique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Le VTT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 laver les cheveux– p.c. (elle)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457200" y="685800"/>
            <a:ext cx="79246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and j’étais petit, je ___ à ma grand-mère. (rendre visite)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447920" y="1523880"/>
            <a:ext cx="6933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and j’étais petit, je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rendais visit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à ma grand-mère.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533520" y="1371600"/>
            <a:ext cx="838188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l ___ mauvais et il ___.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faire, pleuvoir)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80880" y="10666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l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faisait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mauvais et il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pleuvait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8"/>
          <p:cNvSpPr/>
          <p:nvPr/>
        </p:nvSpPr>
        <p:spPr>
          <a:xfrm>
            <a:off x="1295280" y="685800"/>
            <a:ext cx="723924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Lundi, Sophie ___ (took a walk)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Mardi, Sophie___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(Walked the dog)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762120" y="990720"/>
            <a:ext cx="7848360" cy="45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undi, Sophie s’est promenée (took a walk).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ardi, Sophie a promené le chien.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(Walked the dog)</a:t>
            </a: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80880" y="1523880"/>
            <a:ext cx="9144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nd your legs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Bend them.</a:t>
            </a: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iez/Plie les jambes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371600" y="1447920"/>
            <a:ext cx="6934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D’habitude, je __ à 6h00. (se lever) 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09480" y="1295280"/>
            <a:ext cx="7772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D’habitude, </a:t>
            </a:r>
            <a:r>
              <a:rPr b="0" lang="en-US" sz="7200" spc="-1" strike="noStrike" u="sng">
                <a:solidFill>
                  <a:srgbClr val="000000"/>
                </a:solidFill>
                <a:uFillTx/>
                <a:latin typeface="Times New Roman"/>
              </a:rPr>
              <a:t>je me levais</a:t>
            </a: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 à 6h00.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lle s’est lavé les cheveux.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28600" y="990720"/>
            <a:ext cx="8610480" cy="36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Hier soir, tu __. (sortir)</a:t>
            </a:r>
            <a:endParaRPr b="0" lang="en-US" sz="72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0" y="38088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ier soir, tu </a:t>
            </a:r>
            <a:r>
              <a:rPr b="0" lang="en-US" sz="6600" spc="-1" strike="noStrike" u="sng">
                <a:solidFill>
                  <a:srgbClr val="000000"/>
                </a:solidFill>
                <a:uFillTx/>
                <a:latin typeface="Times New Roman"/>
              </a:rPr>
              <a:t>es sorti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304920" y="17524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juguez “dire” au présent. Que veut dire dire?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600200" y="762120"/>
            <a:ext cx="62485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143000" y="228600"/>
            <a:ext cx="7391520" cy="62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Je dis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Tu dis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Il dit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Nous disons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Vous dites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Ils disent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33"/>
                </a:solidFill>
                <a:latin typeface="Times New Roman"/>
              </a:rPr>
              <a:t>To say</a:t>
            </a:r>
            <a:endParaRPr b="0" lang="en-US" sz="40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304920" y="1752480"/>
            <a:ext cx="830556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mparfait ou passé composé?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Hier, nous___ au restaurant. (manger)</a:t>
            </a:r>
            <a:endParaRPr b="0" lang="en-US" sz="6000" spc="-1" strike="noStrike">
              <a:solidFill>
                <a:srgbClr val="66ff33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3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66ff33"/>
              </a:solidFill>
              <a:latin typeface="Times New Roman"/>
            </a:endParaRPr>
          </a:p>
        </p:txBody>
      </p:sp>
      <p:graphicFrame>
        <p:nvGraphicFramePr>
          <p:cNvPr id="63" name="Object 4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6"/>
          <p:cNvSpPr/>
          <p:nvPr/>
        </p:nvSpPr>
        <p:spPr>
          <a:xfrm>
            <a:off x="838080" y="198108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Hier, nous avons mangé au restaurant.</a:t>
            </a:r>
            <a:endParaRPr b="0" lang="en-US" sz="6600" spc="-1" strike="noStrike">
              <a:solidFill>
                <a:srgbClr val="66ff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5:26:29Z</dcterms:created>
  <dc:creator>Technology</dc:creator>
  <dc:description/>
  <dc:language>en-US</dc:language>
  <cp:lastModifiedBy>nbarthenheier</cp:lastModifiedBy>
  <dcterms:modified xsi:type="dcterms:W3CDTF">2009-06-04T16:26:24Z</dcterms:modified>
  <cp:revision>97</cp:revision>
  <dc:subject/>
  <dc:title>PowerPoint Presentation</dc:title>
</cp:coreProperties>
</file>